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6C5F-1DE1-4372-B468-9CB0A537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E8A8-FEB9-48B3-BCD2-4619E6B4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03D-9837-46E6-A3D8-485569AD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BC9-81CC-49FA-A908-B477D8C2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8688-8302-4D7F-8CF7-99357041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86E-1A1A-40DB-AF99-D560A02F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53C-7E7E-43BC-B2BE-278F9073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C7C-DBB2-4F3B-BB33-B98833FE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FB3-B8AE-458E-9E02-3DF8E8E4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6DD-F675-4A7E-9864-C9AABBF2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E2B-2375-4701-A8C5-C4605ADF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2E2-28E3-4BEC-BD5A-E16BFAEC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C721-80BA-401B-9FB9-67FC4D7C1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kierraandalison123.files.wordpress.com/2008/09/islam-ur-moongod-2100bc.jpg&amp;imgrefurl=http://kierraandalison123.wordpress.com/2008/09/11/kierras-view-on-the-religion-in-the-ancient-world/&amp;usg=__bhX9JfLQHby-krInfxdJHMlfI0k=&amp;h=333&amp;w=599&amp;sz=72&amp;hl=en&amp;start=3&amp;zoom=1&amp;um=1&amp;itbs=1&amp;tbnid=x16hFhmV9zaJ6M:&amp;tbnh=75&amp;tbnw=135&amp;prev=/images%3Fq%3Dmesopotamian%2Breligion%26um%3D1%26hl%3Den%26safe%3Dactive%26sa%3DX%26tbs%3Disch: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www.eso-garden.com/images/uploads_bilder/norse_mythology_3.jpg&amp;imgrefurl=http://picsdigger.com/image/9a843fa2/&amp;usg=__A_q97QJnS3CiZauPNhAlLYF12PI=&amp;h=472&amp;w=295&amp;sz=62&amp;hl=en&amp;start=12&amp;zoom=1&amp;um=1&amp;itbs=1&amp;tbnid=SDX832BDgIZVLM:&amp;tbnh=129&amp;tbnw=81&amp;prev=/images%3Fq%3Dmythology%2Bsymbols%26um%3D1%26hl%3Den%26safe%3Dactive%26sa%3DN%26tbs%3Disch: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ca/imgres?imgurl=http://i.ytimg.com/vi/wriUZ8J0Ofw/0.jpg&amp;imgrefurl=http://viivi.net/index.php%3Fkey%3DTriton&amp;usg=__u3VtH_uvIO5Z_EGEzonA87bwI00=&amp;h=360&amp;w=480&amp;sz=9&amp;hl=en&amp;start=13&amp;zoom=1&amp;um=1&amp;itbs=1&amp;tbnid=gW10p5W4gHfhBM:&amp;tbnh=97&amp;tbnw=129&amp;prev=/images%3Fq%3Dmythology%2Bsymbols%2Bscience%26um%3D1%26hl%3Den%26safe%3Dactive%26sa%3DG%26tbs%3Disch: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www.redicecreations.com/specialreports/2006/01jan/annunaki4.jpg&amp;imgrefurl=http://www.redicecreations.com/specialreports/2006/01jan/annunaki.html&amp;usg=__cCS1RJxa5WfAEFOvjYaDpxPTg1M=&amp;h=325&amp;w=325&amp;sz=14&amp;hl=en&amp;start=1&amp;zoom=1&amp;um=1&amp;itbs=1&amp;tbnid=Wx0MBDdDwhWjTM:&amp;tbnh=118&amp;tbnw=118&amp;prev=/images%3Fq%3Dmesopotamian%2Breligion%26um%3D1%26hl%3Den%26safe%3Dactive%26tbs%3Disch: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a/imgres?imgurl=http://perfectplate.com/product_images/uploaded_images/medical%2520symbol.jpg&amp;imgrefurl=http://askpari.wordpress.com/2009/09/04/why-are-snakes-used-as-the-symbol-of-medicine/&amp;usg=__a8i_q8IRBpxU_YgCuRgkd79Xe5A=&amp;h=380&amp;w=332&amp;sz=32&amp;hl=en&amp;start=4&amp;zoom=1&amp;um=1&amp;itbs=1&amp;tbnid=6XqDe7W1eEem8M:&amp;tbnh=123&amp;tbnw=107&amp;prev=/images%3Fq%3Droman%2Bmythology%2Bsymbols%26um%3D1%26hl%3Den%26safe%3Dactive%26tbs%3Disch: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836720" y="-360"/>
            <a:ext cx="712944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f497d"/>
                </a:solidFill>
                <a:latin typeface="Brush Script MT"/>
              </a:rPr>
              <a:t>Polytheism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Calibri"/>
              </a:rPr>
              <a:t>Jamie Ly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omen in Myth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men were extremely important in Mythology for they were the Godd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men did not share equa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th men, worshiped 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dd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howarddavidjohnson.com/mythic-women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TEMP.RDPSD.012\My Documents\My Pictures\sWaterhousePsyche.jpg"/>
          <p:cNvPicPr/>
          <p:nvPr/>
        </p:nvPicPr>
        <p:blipFill>
          <a:blip r:embed="rId1"/>
          <a:stretch/>
        </p:blipFill>
        <p:spPr>
          <a:xfrm>
            <a:off x="6300720" y="2335320"/>
            <a:ext cx="284328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"Polytheism."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Wikipedia, the Free Encyclopedia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 Web. 19 Oct. 2010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ttp://en.wikipedia.org/wiki/Polytheis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ds And Goddesses."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Spirituality - AllAboutSpirituality.org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 Web. 20 O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010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ttp://www.allaboutspirituality.org/Gods-And-Goddesses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"Women of Mythology; Warriors, Mothers &amp; Virgins: The Art of Howard David Johnson; Women of Greek, Roman, Norse &amp; Asian Mythology." </a:t>
            </a:r>
            <a:r>
              <a:rPr b="0" i="1" lang="en-US" sz="1800" spc="-1" strike="noStrike">
                <a:solidFill>
                  <a:srgbClr val="ffffff"/>
                </a:solidFill>
                <a:latin typeface="Calibri"/>
              </a:rPr>
              <a:t>Realistic Art: The Art Galleries of Howard David Johnson (Contemporary RealisticArt in Paintings,Photo-Realistic Drawings,Photographic Art &amp; Realistic Digital Art by David Johnson)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Web. 22 Oct. 2010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http://www.howarddavidjohnson.com/mythic-women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"Science : Science and Mythology." </a:t>
            </a:r>
            <a:r>
              <a:rPr b="0" i="1" lang="en-CA" sz="1800" spc="-1" strike="noStrike">
                <a:solidFill>
                  <a:srgbClr val="ffffff"/>
                </a:solidFill>
                <a:latin typeface="Calibri"/>
              </a:rPr>
              <a:t>SEED</a:t>
            </a:r>
            <a:r>
              <a:rPr b="0" lang="en-CA" sz="1800" spc="-1" strike="noStrike">
                <a:solidFill>
                  <a:srgbClr val="ffffff"/>
                </a:solidFill>
                <a:latin typeface="Calibri"/>
              </a:rPr>
              <a:t>. Web. 23 Oct. 2010.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 http://www.seed.slb.com/v2/FAQView.cfm?ID=4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Calibri"/>
              </a:rPr>
              <a:t>"Mythology in Art." </a:t>
            </a:r>
            <a:r>
              <a:rPr b="0" i="1" lang="en-CA" sz="1600" spc="-1" strike="noStrike">
                <a:solidFill>
                  <a:srgbClr val="ffffff"/>
                </a:solidFill>
                <a:latin typeface="Calibri"/>
              </a:rPr>
              <a:t>Art Cyclopedia: The Fine Art Search Engine</a:t>
            </a:r>
            <a:r>
              <a:rPr b="0" lang="en-CA" sz="1600" spc="-1" strike="noStrike">
                <a:solidFill>
                  <a:srgbClr val="ffffff"/>
                </a:solidFill>
                <a:latin typeface="Calibri"/>
              </a:rPr>
              <a:t>. Web. 22 Oct. 2010. &lt;http://www.artcyclopedia.com/feature-2000-05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"Mythology Symbols - Google Search." </a:t>
            </a:r>
            <a:r>
              <a:rPr b="0" i="1" lang="en-CA" sz="1400" spc="-1" strike="noStrike">
                <a:solidFill>
                  <a:srgbClr val="ffffff"/>
                </a:solidFill>
                <a:latin typeface="Calibri"/>
              </a:rPr>
              <a:t>Google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. Web. 25 Oct. 2010. &lt;http://www.google.ca/images?hl=en&amp;q=mythology symbols&amp;safe=on&amp;um=1&amp;ie=UTF-8&amp;source=og&amp;sa=N&amp;tab=w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bliography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eeece1"/>
                </a:solidFill>
                <a:latin typeface="Calibri"/>
              </a:rPr>
              <a:t>"LINKS : Ancient Mythology, Art &amp; History." </a:t>
            </a:r>
            <a:r>
              <a:rPr b="0" i="1" lang="en-CA" sz="1800" spc="-1" strike="noStrike">
                <a:solidFill>
                  <a:srgbClr val="eeece1"/>
                </a:solidFill>
                <a:latin typeface="Calibri"/>
              </a:rPr>
              <a:t>THEOI GREEK MYTHOLOGY, Exploring Mythology &amp; the Greek Gods in Classical Literature &amp; Art</a:t>
            </a:r>
            <a:r>
              <a:rPr b="0" lang="en-CA" sz="1800" spc="-1" strike="noStrike">
                <a:solidFill>
                  <a:srgbClr val="eeece1"/>
                </a:solidFill>
                <a:latin typeface="Calibri"/>
              </a:rPr>
              <a:t>. Web. 26 Oct. 2010. &lt;http://www.theoi.com/Links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lythe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ytheism is the belief of multiple gods or de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ytheism is a term that came from Gree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y meaning- Many (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polu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ism meaning- God (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theo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god usually has a different job or is the god of a specific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pular in many religions today such as Shintoism, Taoism and Hindu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04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on De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90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ypes of deities often found in polytheism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ky G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ath De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ther Godd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ove Godd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eator De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ater De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ickster De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fe-Death-Rebirth De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ulture H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od of Music, Arts, Science, Farming and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ps of Orig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nce the earliest civil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ytheism has existed, 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umans we have tried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lain the meaning of life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ces of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islam-ur-moongod-2100b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17920"/>
            <a:ext cx="4392720" cy="244008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2843280" y="4437000"/>
            <a:ext cx="143964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sopotamia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Picture 9" descr="aten-akhenaten"/>
          <p:cNvPicPr/>
          <p:nvPr/>
        </p:nvPicPr>
        <p:blipFill>
          <a:blip r:embed="rId3"/>
          <a:stretch/>
        </p:blipFill>
        <p:spPr>
          <a:xfrm>
            <a:off x="6284880" y="3645000"/>
            <a:ext cx="2859120" cy="3213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10"/>
          <p:cNvSpPr txBox="1"/>
          <p:nvPr/>
        </p:nvSpPr>
        <p:spPr>
          <a:xfrm>
            <a:off x="6516720" y="3933720"/>
            <a:ext cx="56196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gypt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" name="Picture 14" descr="mapane"/>
          <p:cNvPicPr/>
          <p:nvPr/>
        </p:nvPicPr>
        <p:blipFill>
          <a:blip r:embed="rId4"/>
          <a:stretch/>
        </p:blipFill>
        <p:spPr>
          <a:xfrm>
            <a:off x="5580000" y="1125360"/>
            <a:ext cx="3564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332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ncient Polythe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believed Polytheism evolved from the idea of supernatural forces or through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lytheism was present in the earliest  civilizations such as  Mesopotamia and Egy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eek and Roman Mythology is a classic example of Polythe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alibri"/>
              </a:rPr>
              <a:t>Mythology and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umans have always wanted to have explanations for the forces of n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sociation with Gods and Godd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norse_mythology_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573360"/>
            <a:ext cx="2060640" cy="328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75280" y="4292640"/>
            <a:ext cx="31687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used works of art to help explain the superna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autiful canvases of Goddesses were pai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every polytheistic religion astounding monuments were built for the gods, such as Ziggurats in Mesopota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(God in Sumero Mesopotam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annunaki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97800" y="4411800"/>
            <a:ext cx="2446200" cy="2446200"/>
          </a:xfrm>
          <a:prstGeom prst="rect">
            <a:avLst/>
          </a:prstGeom>
          <a:ln w="9360">
            <a:solidFill>
              <a:srgbClr val="ff99cc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ymbo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thography is the study of the symbols in My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ery civilization had its own beliefs and symbols for their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239840" y="16128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edical%2520symb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3933720"/>
            <a:ext cx="25444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eek Mythology Symb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Aphrodite| sceptre, myrtle, dove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Apollo | bow, lyre, laurel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Ares | spear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Artemis | bow, deer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Athena | owl, olive tree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Demeter | sceptre, torch, corn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Dionysus | grape vine, i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Hephaestus | axe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Hera | sceptre, diadem, peacock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Hermes | winged boots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Poseidon | trident, horse, bull 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</a:rPr>
              <a:t>Zeus | thunderbolt, eagle, oak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8:55:30Z</dcterms:created>
  <dc:creator>Administrator</dc:creator>
  <dc:description/>
  <dc:language>en-US</dc:language>
  <cp:lastModifiedBy>ripkensa</cp:lastModifiedBy>
  <dcterms:modified xsi:type="dcterms:W3CDTF">2010-11-15T16:25:05Z</dcterms:modified>
  <cp:revision>10</cp:revision>
  <dc:subject/>
  <dc:title>Polytheism</dc:title>
</cp:coreProperties>
</file>